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2BF9-D99D-458D-810E-0E9518218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94E4-C032-4F05-8D1C-A1CC0B83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854B-4561-4C1E-A0D0-52BBC6507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0A5B-A054-4D31-88B1-6BB78E19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8D0E-CB79-4EA1-ACA0-EFD2BF7F4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4BC5-704F-4ADD-A6D8-A97472F9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E5B-550D-4BF2-B41C-E69A5E83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07D-A68F-4C0F-A320-26DEBBAF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BBC-00A0-471E-ABB1-A744F8F6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81C-4102-4818-B994-C4FC0873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F03-D13F-4D39-860D-46D01593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4F8-8B56-48F2-A5DA-D8683DD1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6B3-210B-450F-B499-B461C6D8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DC0-A039-4B49-8C1E-7F15F561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CE0-1A7D-4966-B6EE-2B69BF35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7D9-670D-47DA-AEA6-3F737A4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7CE-6D5A-40C9-8580-E2F4EAE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101-6E2F-467C-BE14-6942E10E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AD4-577F-4120-9C09-FF71C62D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ED 502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&amp; Scienc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ed 5021 Math &amp; Scienc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752480" y="4495680"/>
            <a:ext cx="5715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do children learn?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449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learn in order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problem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struct patterns and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through experie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in order to reduce the cognitive complexity of our li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patterns that encompass particul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your math curriculum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t in Detroi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ce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of mar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z d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wooden poles 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ld 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 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ree 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she left behind a wooden door, a box of newspapers, a 5-gallon can of gasoline, a bunch of tires and an AM radio from an old For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ir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ron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 ax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arbage cans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icture 1.png"/>
          <p:cNvPicPr/>
          <p:nvPr/>
        </p:nvPicPr>
        <p:blipFill>
          <a:blip r:embed="rId1"/>
          <a:stretch/>
        </p:blipFill>
        <p:spPr>
          <a:xfrm>
            <a:off x="4645080" y="4498920"/>
            <a:ext cx="1700280" cy="26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657600" y="1143000"/>
            <a:ext cx="5283360" cy="2971800"/>
          </a:xfrm>
          <a:prstGeom prst="rect">
            <a:avLst/>
          </a:prstGeom>
          <a:ln w="12600">
            <a:solidFill>
              <a:srgbClr val="b3b3b3"/>
            </a:solidFill>
            <a:miter/>
          </a:ln>
          <a:effectLst>
            <a:outerShdw dist="101520" dir="5400000" blurRad="0" rotWithShape="0">
              <a:srgbClr val="808080">
                <a:alpha val="4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251320" y="1447920"/>
            <a:ext cx="389268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the se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do in k-8 math? 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sp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5297400" y="4767120"/>
            <a:ext cx="19940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01:12Z</dcterms:created>
  <dc:creator>Seattle University</dc:creator>
  <dc:description/>
  <dc:language>en-US</dc:language>
  <cp:lastModifiedBy>Microsoft Office User</cp:lastModifiedBy>
  <cp:lastPrinted>2008-03-04T19:40:59Z</cp:lastPrinted>
  <dcterms:modified xsi:type="dcterms:W3CDTF">2016-12-08T21:42:33Z</dcterms:modified>
  <cp:revision>18</cp:revision>
  <dc:subject/>
  <dc:title>TEED 521 Math &amp; Science Methods</dc:title>
</cp:coreProperties>
</file>